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E25-8D9D-4E5A-BAA6-FCDE292B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968-689F-4CA0-8BE6-4E821796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34BC-C0CB-47ED-8383-CA44066E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9E4-A7CA-442A-90E7-8E1EAC3F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D79-C776-4994-9C32-F174A69E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063-20A5-4D63-8B64-17E31AD4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8CD-590F-454E-8D7B-DFE2AD80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A12-67C9-4A3A-AAC8-C5958170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4B6-FF76-40CF-A9FB-D711E805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AC30-9E0B-4C76-9E97-4597A05F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21BE-250D-4D6D-8956-3206401B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1E97-9A98-407B-B01C-3E36F712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1505-21FA-4707-8913-DBC883279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ICLO    DE    VIDAS    DE   LOS   OCÉ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ON  LOS  RASGOS  MAS  IMPORTANTES  DE  LA  SUPERFICIE  DE   LA  TIERRA,  Y  SU  EXISTENCIA  Y   EVOLUCIÓN    CONTROLA  MUCHO   DE   LOS  PROCESOS  GEOLÓGICOS   MAS   NOTABLES   DEL  PLAN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HAN   APARECIDO   SOBRE    LA   FAZ   DE   LA  TIERRA     MAS   RECIENTEMENTE   QUE  OTROS,  Y   OTROS  EXISTEN   DESDE   TIEMPOS  MUY  ANTIGUO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AMBIÉN,   ALGUNAS  PARTES  DE   UN  MISMO   OCÉANO  SON  MAS  VIEJAS   O   MAS  JÓVENES  QUE  O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ENCAS  OCEÁNICAS  SE  INICIA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NAC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A   PARTIR   DE 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FTING  CONTINEN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TERMINAN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MUER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  BAJO  EL  EFECTO  DE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UBDUCCIÓN   LITOSFÉ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SU  DESARROLLO   ES  PROGRESIVO  Y  SU  EVOLUCIÓN   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ÍCL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ENCAS  OCEÁNICAS  CRECEN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DE  SU INICIO,   DE   MUY  PEQUEÑAS  HASTA  UN  MÁXIMO,  Y  DESPUÉ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CONTRAEN  Y  RECOG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VUELVEN  A   SER   PEQUEÑOS),   HASTA DESAPARECER  EN  ALGUNOS CA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ICLO  DE VIDA   DE  LOS  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FUE     PROPUESTO   POR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UZO  WILSO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  1968,   QUIÉN  DEFINIÓ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EIS  ETAPAS  DE   DESARROL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ADA  UNA  DE   ELLAS   REPRESENTADA   HOY   DÍA   SOBRE  LA  FAZ    DE    LA TIERRA,   POR   OCÉANOS   REALES,   O   POR     ESTRUCTURAS   GLOBALES   Y  PECULIARES  EXISTENTES  EN  DETERMINADOS  LUGARES DEL PLAN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ICLO    DE   VIDA    DE    LOS    OCÉANOS 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continu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1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TADO  EMBRIONAR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Ej:  RIFT -  VALLEYS  ESTE   AFRICA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levant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2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TADO  JÓVEN.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:  MAR  ROJO;  GOLFO  DE  ADÉN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expan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3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ESTADO   MADURO.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  OCÉANO  ATLÁNTICO.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expasí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4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ESTADO   DECLINANTE.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:  OCÉANO  PACÍFICO.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dominante:  con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 baseline="-2000">
                <a:solidFill>
                  <a:srgbClr val="ffffff"/>
                </a:solidFill>
                <a:uFillTx/>
                <a:latin typeface="Times New Roman"/>
              </a:rPr>
              <a:t>ETAPA   5</a:t>
            </a:r>
            <a:r>
              <a:rPr b="0" i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      ESTADO   TERMINAL.            </a:t>
            </a:r>
            <a:r>
              <a:rPr b="0" lang="es-ES_tradnl" sz="2800" spc="-1" strike="noStrike" baseline="-2000">
                <a:solidFill>
                  <a:srgbClr val="ffffff"/>
                </a:solidFill>
                <a:latin typeface="Times New Roman"/>
              </a:rPr>
              <a:t>Ej.  MAR  MEDITERRÁNEO.                              Movimiento  dominante:  contracción  y  levan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 baseline="-2000">
                <a:solidFill>
                  <a:srgbClr val="ffffff"/>
                </a:solidFill>
                <a:uFillTx/>
                <a:latin typeface="Times New Roman"/>
              </a:rPr>
              <a:t>ETAPA   6</a:t>
            </a:r>
            <a:r>
              <a:rPr b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ESTADO    RELICTO. (CICATRIZADO).   </a:t>
            </a:r>
            <a:r>
              <a:rPr b="0" lang="es-ES_tradnl" sz="2800" spc="-1" strike="noStrike" baseline="-2000">
                <a:solidFill>
                  <a:srgbClr val="ffffff"/>
                </a:solidFill>
                <a:latin typeface="Times New Roman"/>
              </a:rPr>
              <a:t>Ej:   SUTURA  ÍNDICA  DE   LOS   HIMALAYAS.  Movimiento  dominante:  </a:t>
            </a:r>
            <a:r>
              <a:rPr b="0" lang="es-ES_tradnl" sz="3200" spc="-1" strike="noStrike" baseline="-2000">
                <a:solidFill>
                  <a:srgbClr val="ffffff"/>
                </a:solidFill>
                <a:latin typeface="Times New Roman"/>
              </a:rPr>
              <a:t>contracción  y  levant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30T00:12:08Z</dcterms:created>
  <dc:creator>Universidad de Chile</dc:creator>
  <dc:description/>
  <dc:language>en-US</dc:language>
  <cp:lastModifiedBy>Universidad de Chile</cp:lastModifiedBy>
  <cp:lastPrinted>2001-06-30T01:22:51Z</cp:lastPrinted>
  <dcterms:modified xsi:type="dcterms:W3CDTF">2001-06-30T01:29:03Z</dcterms:modified>
  <cp:revision>2</cp:revision>
  <dc:subject/>
  <dc:title>CICLO    DE    VIDAS    DE   LOS   OCÉANOS</dc:title>
</cp:coreProperties>
</file>